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780-726D-4EDE-B207-AD291BC8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E77-7E78-404A-B6B1-C6629548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8CBB-7E3E-479D-8ADE-9FD47D09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72D-7FF8-4762-BAFD-E9F05629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5F0-1CBD-457E-B561-572FD68E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960-AF76-4B39-AE44-CAA04D47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9589-36E1-4F48-9B06-30605FBD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D94-7B96-4469-963F-434DB04D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AC1-A17A-48C5-A7BD-45404453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7C3-61CE-4F04-A212-18D5EA30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B0D-7794-430A-8483-CD2DEA81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EDB-1534-4B88-B8DF-8DDDDDE3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D2DD-A2EC-419B-8340-D9F57604E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286622bSprOQQoc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4290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9880"/>
            <a:ext cx="2895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ماذا أفعَلُ يا إلهي، حتى تنسى ما فعلتُ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4924715GRMuZrvGAj_ph" descr="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28600"/>
            <a:ext cx="3200400" cy="114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ودتي إلى حُضنِكَ الدافىء عَودةَ المُشرّدِ نحو الوط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بّي يا سفينتي ويا مرفأي فيكَ السكينَةُ فيكَ السَّكن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286622bSprOQQoc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4290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809880"/>
            <a:ext cx="2895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ماذا أفعَلُ يا إلهي، حتى تنسى ما فعلتُ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5488241REkwlfkALI_ph" descr=""/>
          <p:cNvPicPr/>
          <p:nvPr/>
        </p:nvPicPr>
        <p:blipFill>
          <a:blip r:embed="rId1"/>
          <a:stretch/>
        </p:blipFill>
        <p:spPr>
          <a:xfrm>
            <a:off x="0" y="-214200"/>
            <a:ext cx="9677520" cy="7711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335268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ّي فقير فقير إليكْ إنّي غنيّ غنيّ ب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شوَتي نعيمي في راحَتَيك لأني شريكٌ بكل ما ل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286622bSprOQQoc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4290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09880"/>
            <a:ext cx="2895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ماذا أفعَلُ يا إلهي، حتى تنسى ما فعلتُ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7:12:48Z</dcterms:created>
  <dc:creator>SUZANNE.MD</dc:creator>
  <dc:description/>
  <dc:language>en-US</dc:language>
  <cp:lastModifiedBy>USER</cp:lastModifiedBy>
  <dcterms:modified xsi:type="dcterms:W3CDTF">2003-03-03T07:35:21Z</dcterms:modified>
  <cp:revision>2</cp:revision>
  <dc:subject/>
  <dc:title>PowerPoint Presentation</dc:title>
</cp:coreProperties>
</file>